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43B-353C-4BC7-B870-65E01F09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A89-9F05-4CF7-9101-8B8C25F3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8A2-F83B-410E-9DDC-FB11FCC3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D41-9112-4D78-AA56-00F0D65F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F9D-EE8C-4CE1-B543-F42E5B19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289-9EB3-411E-ABAA-8BBDD62A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F52-1973-4576-88F3-FBFE26F0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DE4-21A5-4EF4-B5EC-30114DA4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D2A-F6D3-43A7-88A8-9B1047D0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A65-24A5-4DA8-B3DB-4B90C1CD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145-853A-4ECF-951B-97C95978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AD6-D86C-4D0F-9A49-23AC999B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CC15-6DBB-4261-8440-217153661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Calibri"/>
              </a:rPr>
              <a:t>УНИВЕРЗИТЕТ У КРАГУЈЕВЦУ</a:t>
            </a:r>
            <a:br>
              <a:rPr sz="1100"/>
            </a:br>
            <a:r>
              <a:rPr b="1" lang="sr-CS" sz="1100" spc="-1" strike="noStrike">
                <a:solidFill>
                  <a:srgbClr val="000000"/>
                </a:solidFill>
                <a:latin typeface="Calibri"/>
              </a:rPr>
              <a:t>ФАКУЛТЕТ МЕДИЦИНСКИХ НАУ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858040" y="4797360"/>
            <a:ext cx="350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Катедра изборног подруч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139400" y="2133720"/>
            <a:ext cx="7029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Докторске академске студ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ИП</a:t>
            </a:r>
            <a:r>
              <a:rPr b="1" i="1" lang="sr-RS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sr-RS" sz="1600" spc="-1" strike="noStrike">
                <a:solidFill>
                  <a:srgbClr val="000000"/>
                </a:solidFill>
                <a:latin typeface="Calibri"/>
              </a:rPr>
              <a:t>Експериментална и примењена физиологија са спортском медицин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9" descr=""/>
          <p:cNvPicPr/>
          <p:nvPr/>
        </p:nvPicPr>
        <p:blipFill>
          <a:blip r:embed="rId2"/>
          <a:stretch/>
        </p:blipFill>
        <p:spPr>
          <a:xfrm>
            <a:off x="171360" y="3060720"/>
            <a:ext cx="89791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МЕРЕЊЕ НА ВА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з обзира на врсту ваге, при мерењу се морају поштовати следећа прав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 почетка мерења проверити да ли је вага у хоризонталном положају помоћу либеле, и уколико је потребно подесити положај завртањем ножица ваг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оптерећена вага показује вредност од 0,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односно 0,0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олико је неопходно, поново нулирати ваг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мети који се мере морају бити хладни, суви и чи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 се ни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стављају директно на тас ваге, већ се одмеравају у лабораторијск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аши, сахатном стаклу или посебним подметачима за мерење израђеним 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ластике или специјалне хартије, тефлона итд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МЕРЕЊЕ НА ВА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з обзира на врсту ваге, при мерењу се морају поштовати следећа прав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ко се вага случајно запрља, мерење се прекида, вага очисти и опер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рења понављ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ака вага има одређени капацитет, који је назначен на самој ваги; вага се ни у ком случају не сме преоптерети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ко се у оквиру једног огледа врши више мерења, мора се користити иста вага за сва мерењ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арљиве, корозивне или хигроскопне супстанце  се одмеравају у затвореним предходно тарираним посуд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ИЗРАДА РАСТВ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центни раствор %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/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, изражен као проценат масе по укупној запремини: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ч проценат потиче од две латинске речи 'пер' (по, на, од) и 'центум' (стотина). То значи да када правите овај тип раствора ви изражавате број грама одређене супстанце на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финалног раствора. Тако, уколико правите 25% раствор соли, то значи да треба да додате 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оли на укупно 1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аствор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правити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1% раств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C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мол.маса=58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 прављење процентног раствора није потребно да знате моларну масу. Потребно је само да израчунате број грама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C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које треба да се нађе у 100 милилитара раствора који на крају треба да добијете. Стога, 1% водени раствор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C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равите тако што узмете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C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и растворите га у води ДО запремине од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759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правити 25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раствора 3% сахарозе (мол.маса. = 342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 сваких 100 милилитара 3% раствора сахарозе треба вам 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шећера. Значи поставите пропорциј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ахарозе: 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раствора = X : 2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раство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X= 7,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ахар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но је имати на уму да када израчунате колико грама супстанце вам треба за одређену финалну запремину раствора, ви додајете ту масу супстанце и одговарајућу запремину растварача ДО финалне запремин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реба направити 3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хранљивог медијума који се састоји од 0.3% глукозе и 0.7% сахароз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о значи да треба да израчунамо посебно за сваку супстанцу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колико грама глукозе нам треба да би у 3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медијума њен удео био 0,3%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колико грама сахарозе нам треба да би у 3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медијума њен удео био 0,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што су и глукоза и сахароза у чврстом стању, треба знати колико грама сваке супстанце треба за финалну запремину од 3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медијума. Значи, за сваку супстанцу одвојено рачунамо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*Глукоз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0,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глукозе : 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медијума= X : 3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медију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=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*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X=0,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глук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*Сахароза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0,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ахарозе: 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медијума = X : 3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едију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=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*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X=2,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ахар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ИЗРАДА РАСТВ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центни раствор 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/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изражен као проценат запремине по укупној запремин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вај тип процентног раствора правите када вам је супстанца коју растварате у течном стањ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ити 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40% етано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0% водени раствор етанола значи да у укупној запремини раствора од 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реба да буде етанол. Значи 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танола и остатак воде (60мл) треба додати до 100мл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ити 2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5% етанола у вод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танола : 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раствора = X : 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раств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* 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* 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X=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тано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начи, у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танола треба додати воду до укупне запремине од 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како би се направило 2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5% раствора етано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ИЗРАДА РАСТВ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ларна концентра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рачунање моларне концентрације раствора неопходно је да знате моларну масу супстанци. Моларна концентрација се односи на то колико мола неке супстанце је растворено у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растварач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који начин бисте направили 5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воденог раствора 0,1М глукозе (мол.маса=180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) За раствор глукозе концентрације 1М, потребно је 1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глукозе у коју доливате воду до финалне запремине од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) АЛИ, вама не треба 1М раствор глукозе већ 0,1М. Стога, ако 1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треба да би се направио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раствора концентрације 1М, колико грама глукозе треба за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раствора концентрације 0,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? То рачунате преко следеће пропорциј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глукозе: 1М = X : 0,1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глукоз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) Међутим, вама не треба литар раствора, ВЕЋ 5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Стога, ако 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лукозе треба за један литар 0,1М раствора глукозе, колико грама треба за пола литра тог раствора? То рачунате опет преко пропорциј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глукозе : 1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= X : 5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*5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=1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*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глукоз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ога, 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глукозе вам треба да бисте у њих долили воду до 5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и направили пола литра раствора глукозе концентрације 0,1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 бочици се налази 60% етанол, а вама треба 1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етанола концентрације 15%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ју запремину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, коли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почетног раствора од 60%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) треба да узмемо, да бисмо добили 1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финалног раствора разблажења 15%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)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=60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=1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=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=150м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=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)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=37,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очетног раствора етанола од 60% треба узети и додати воду до укупне запремине од 1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како би се добило 1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15% раствора етано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чевши од 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5% раствора глукозе, треба направити 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2% раствор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% 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 = 2% * 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 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 = 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 = 1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начи, да бисте направили 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2% раствора глукозе, од почетног 5% разблажења глукозе треба да узмете 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и додате воду до запремине финалног раствора од 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аса је једно од основних карактеристика физичких тела (супстанце) и једна од основних величина механик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Свако тело има неку масу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аса је стална - непроменљива величина (осим када се тело креће великим брзинама блиским брзини светлости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аса је  мера за инерцију тела;  тело мање масе се мање опире промени стања кретањ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Јединица за масу у међународном 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I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систему мера је килограм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kg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МЕР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vaga"/>
          <p:cNvPicPr/>
          <p:nvPr/>
        </p:nvPicPr>
        <p:blipFill>
          <a:blip r:embed="rId1"/>
          <a:stretch/>
        </p:blipFill>
        <p:spPr>
          <a:xfrm>
            <a:off x="1990800" y="1600200"/>
            <a:ext cx="5400720" cy="4030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ПОУЗДАНОСТ МЕР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рецизност мерења описује колико серије мерења истог ‘објекта’ личе међусобн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оузданост мерења зависи од квалитета прибора, величине најмањег подељка на скали инструмента, радног искуства итд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Што су вредности мерења међусобно ближе, оне су тачниј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ачност описује колико је блиско измерена вредност од праве вредности (одступања од праве вредности), а зависи од избора методе, конструкције прибора и начина његове калибрац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ПОУЗДАНОСТ МЕР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Уобичајено је да се мерење неке физичке величине врши више пу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У случајевима када се врши само једно мерење, могуће је одредити само апсолутну и релативну грешку мере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Апсолутна грешка мерења представља одступање појединих резултата мерења од средње вр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ПОУЗДАНОСТ МЕР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на апсолутна грешка је често одређена самим инструментом на коме је извршено мерење (максимална апсолутна грешка мерења масе на дигиталној (аналитичкој) ваги износи ±0,000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ади процене величине апсолутне грешке, она се мора упоредити са измереном вредношћ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а тај начин добијамо релативну грешку мерења, која представља однос апсолутне грешке и средње вредности мерењ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ПОУЗДАНОСТ МЕР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ко је релативна грешка мања од 0,1 сматра се да је мерење било корект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Увек треба поштовати правило да се експериментални резултати не смеју представљати са већим бројем значајних цифара него што је то одређено грешком мерењ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а пример, пошто апсолутна грешка мерења масе на аналитичкој ваги износи ±0,0001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, маса измерених предмета мора бити представљена закључно са четири цифре иза децималног зарез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КАПАЦИТЕТ ВА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Зависно од капацитета и прецизности постоје различите врсте ваг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децимална вага је капацитета до 2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g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и прецизности од 0,1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техничка вага је капацитета до 600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и прецизности од 0,01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рецизна вага има сличан или нешто мањи капацитет и прецизност од 1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аналитичка вага је капацитета до 200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и прецизности од 0,1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микровага је капацитета до 25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уз прецизност од 1 µ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А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Vlada\Desktop\anbec-analiticke-vage-na-cetiri-decimale.jpg"/>
          <p:cNvPicPr/>
          <p:nvPr/>
        </p:nvPicPr>
        <p:blipFill>
          <a:blip r:embed="rId1"/>
          <a:stretch/>
        </p:blipFill>
        <p:spPr>
          <a:xfrm>
            <a:off x="4572000" y="1676520"/>
            <a:ext cx="4362480" cy="4362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Vlada\Desktop\Tehnicka-vaga-2-Radwag.jpg"/>
          <p:cNvPicPr/>
          <p:nvPr/>
        </p:nvPicPr>
        <p:blipFill>
          <a:blip r:embed="rId2"/>
          <a:stretch/>
        </p:blipFill>
        <p:spPr>
          <a:xfrm>
            <a:off x="674640" y="2971800"/>
            <a:ext cx="326556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80880" y="238140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утоматска техничка ва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181480" y="56530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утоматска аналитичка ва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lada</dc:creator>
  <dc:description/>
  <dc:language>en-US</dc:language>
  <cp:lastModifiedBy>Vladimir Zivkovic</cp:lastModifiedBy>
  <dcterms:modified xsi:type="dcterms:W3CDTF">2020-03-19T22:08:50Z</dcterms:modified>
  <cp:revision>9</cp:revision>
  <dc:subject/>
  <dc:title>Рад на aналитичкој ваги и методе прављења биохемијских раствора</dc:title>
</cp:coreProperties>
</file>